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8767C-39AD-45ED-AB98-DA081DD0B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89259-EE9F-477E-9115-95CB1868C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D5149-8814-4988-B98F-C310EEDE8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A3D4B-D226-490D-8B48-FC6A12D77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05C79-706A-492C-AB87-11B035E18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F0987-90B3-4BDB-8C20-5A0996259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14F97-EF6C-4AA6-9B8E-77E5CB54F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1ABBD-9B00-41B4-8472-B23CA5FBD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532E3-3B7B-4CAA-88EF-2094C9E91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603B9-1259-417D-B39D-52DC07644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EC3A9-EFF0-41A5-ADFE-554A26071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ADCC3-3764-4576-96F5-C21E007A9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D3BF7-48BA-4C62-9B51-96F49E9125D0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대구한의대부속 대구한방병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발표자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최창항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Welcome to Paradis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356000" y="1599840"/>
            <a:ext cx="47880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물리치료사 선생님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6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출근시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8:3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업무시작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9:0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~ 5:3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점심시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12:30 ~ 2:0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실습일지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기타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라인을 잘 타야 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차로 가는 게 좋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인사 가는 게 좋음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79280" y="2606760"/>
            <a:ext cx="4038840" cy="25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수고하셨습니다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7:45:20Z</dcterms:created>
  <dc:creator>경상대 컴퓨터실 프린터</dc:creator>
  <dc:description/>
  <dc:language>en-US</dc:language>
  <cp:lastModifiedBy>경상대 컴퓨터실 프린터</cp:lastModifiedBy>
  <dcterms:modified xsi:type="dcterms:W3CDTF">2009-04-09T07:47:38Z</dcterms:modified>
  <cp:revision>2</cp:revision>
  <dc:subject/>
  <dc:title>대구한의대부속 대구한방병원</dc:title>
</cp:coreProperties>
</file>